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576-0113-42AF-9C6C-61EE73612B3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9B76-A811-4A71-918F-DC9E79416E0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03DF-6C99-41AC-B7BA-B8CB9A9C5F5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80240" y="299880"/>
            <a:ext cx="54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Citation and Credit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ttp//tw.rpi.edu/media/latest/ParsonsDataCitation.pdf" TargetMode="External"/><Relationship Id="rId2" Type="http://schemas.openxmlformats.org/officeDocument/2006/relationships/hyperlink" Target="http://dx.doi.org/10.1029/2010EO340001" TargetMode="External"/><Relationship Id="rId3" Type="http://schemas.openxmlformats.org/officeDocument/2006/relationships/hyperlink" Target="http://wiki.esipfed.org/index.php/Interagency_Data_Stewardship/Citations/provider_guidelines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itation and Credi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rowing Visibility of Data Citation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2009 AGU position statement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  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cientific community should recognize the professional value of such [data] activities by endorsing the concept of publication of data, to be credited and cited like the products of any other scientific activity, and encouraging peer-review of such publications.”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2009 AMS Ad Hoc Committee on Data Stewardship Prospectu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 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MS should “[d]evelop a plan for citing data referenced in publications and preserving data links for the long term.”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Initiative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Many research centers are beginning to assign Digital Object Identifiers (DOIs) to data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Is provide unique locators for data available onlin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Is provide unique identifiers that can enable data use to be tracked more efficiently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ataCite—an international consortium of libraries and research organizations is: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orking to promote DOIs and citations for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orking with Thompson-Reuters to develop data citation indexes for the Web of Science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rpose of Data Citation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nect publications to their underlying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e scientists and data centers credit for producing and curating data s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nderstand how data are us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 the products that derive from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Recommendation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ESIP Cluster recommendation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Required citation elements: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Author. Release date. Title. Version. Archive/Distributor. Locator/Identifier. Access date and time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Optional citation elements: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Subset Used; Editor, Compiler, or other important role; Distributor, Associate Archive, or other Institutional Role; Data Within a Larger Work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ample citation: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Data Citation Recommendation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rnational Polar Year polic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citations “should include the following elements as appropriate”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uthor or investigator, Publication date, Title, Dates used, Editor or compiler, Publication place, Publisher, Distributor or associate publisher, Distribution medium or location, Access date, Data within a larger work.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ataCite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Recommended minimum citation elements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Creator. PublicationYear. Title. [Version]. Publisher. [ResourceType]. Identifier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 with your data center to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evelop appropriate citations for your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ssign DOIs to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 with collaborators to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ecide when data citations are appropriat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Provide each other with citation information for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 within your research institutions to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ake citing data a regular practice in your labs/groups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Promote the value of data citations in tenure and promotion committees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arsons, M.A. 2011. “Data Citation.” Presentation at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GeoData 2011,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roomfield, CO, 3 March 2011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ttp://tw.rpi.edu/media/latest/ParsonsDataCitation.pdf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arsons, M.A., R. Duerr, and J.-B. Minster. 2010. “Data Citation and Peer Review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Eos Transactions, AGU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91(34): 297-298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dx.doi.org/10.1029/2010EO340001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ederation of Earth Science Information Partners (ESIP). 2011. “Interagency Data Stewardship/Citations/provider guidelines.”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Interagency_Data_Stewardship/Citations/provider_guidelin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access to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onsor (e.g., Agency) or institution requir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tt</cp:lastModifiedBy>
  <dcterms:modified xsi:type="dcterms:W3CDTF">2011-10-18T00:55:03Z</dcterms:modified>
  <cp:revision>47</cp:revision>
  <dc:subject/>
  <dc:title>ESIP Federation 101</dc:title>
</cp:coreProperties>
</file>